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EBC-76A1-45DC-A7F7-896ECDA3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F43-EE38-45B6-BCF6-D6DC3E50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99C-6E91-4E96-80E3-766A2217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B0BC-2A6D-492B-BB61-6A4A78D7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013-5DC5-4B29-A36E-A79533FB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328A-B78E-4478-B786-75023EB1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DD3-8C01-4A3E-A9C0-79E46CF8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FE05-1548-48F4-9EA1-57024E29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649-1128-4219-A0B9-459CF649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A17-4743-4CC0-A174-F7B0887F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505-CF8D-4813-918B-93D0B9B2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955A-4B79-4437-B677-390458C8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7DD7-7D4A-4EA4-ACDA-5CD2A44BC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4319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990000"/>
                </a:solidFill>
                <a:latin typeface="Arial"/>
                <a:ea typeface="文鼎標楷注音"/>
              </a:rPr>
              <a:t>小貓的慶生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小貓的慶生會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9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7280" y="2781360"/>
            <a:ext cx="93672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br>
              <a:rPr sz="3200"/>
            </a:b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40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請慢用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31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  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再見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20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是誰過生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舉辦慶生會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     </a:t>
            </a: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有什麼動物來參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1535040" cy="201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53216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1562040" cy="201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5"/>
          <a:stretch/>
        </p:blipFill>
        <p:spPr>
          <a:xfrm>
            <a:off x="6948360" y="3284640"/>
            <a:ext cx="144000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6"/>
          <a:stretch/>
        </p:blipFill>
        <p:spPr>
          <a:xfrm>
            <a:off x="2916360" y="3284640"/>
            <a:ext cx="15951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貓慶生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有什麼慶生活動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朋友說說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怎麼過生日的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參加過家人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朋友的慶生活動嗎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看看你能模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慶生會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什麼動物角色的叫聲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說一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故事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動物角色的台詞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一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413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鴨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牛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二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慶生會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禮物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送給你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謝謝 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喵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83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三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狗、小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呱.wav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680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哞.wav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908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汪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659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9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咕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578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37450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歡迎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36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禮物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              </a:t>
            </a: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送給你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411280" y="1628640"/>
            <a:ext cx="85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謝謝  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禮物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03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40323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292720" y="0"/>
            <a:ext cx="3851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生日歌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747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1:59:11Z</dcterms:created>
  <dc:creator>user</dc:creator>
  <dc:description/>
  <dc:language>en-US</dc:language>
  <cp:lastModifiedBy>USER</cp:lastModifiedBy>
  <dcterms:modified xsi:type="dcterms:W3CDTF">2022-09-11T09:19:36Z</dcterms:modified>
  <cp:revision>35</cp:revision>
  <dc:subject/>
  <dc:title>小貓的慶生會</dc:title>
</cp:coreProperties>
</file>