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7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C67E-A2AD-40FF-B226-A7D09913E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12A2-2944-4970-A212-C1DD26AD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1739-872F-4B3A-BA3D-2919C6038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AAA8-ED40-4B82-BBBA-F40FEE447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A191-B05A-49FA-ABC4-BD8FE344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803E-944E-4EBF-9E26-E38299F3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8D77-E02A-465B-8A40-3EDDFFE7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805A-478E-4A17-8874-727FE899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9369-6098-42CB-BFC1-6B7EECD4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0406-6891-47F2-AA68-0E23BEB0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0A36-E502-4B56-8373-A7A82D67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718A-5DEC-4AED-A0FF-70F20867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66E4-1577-460E-BA64-7CF408040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43196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990000"/>
                </a:solidFill>
                <a:latin typeface="Arial"/>
                <a:ea typeface="文鼎標楷注音"/>
              </a:rPr>
              <a:t>小貓的慶生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小貓的慶生會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393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7280" y="2781360"/>
            <a:ext cx="936720" cy="36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來吃蛋糕 </a:t>
            </a:r>
            <a:r>
              <a:rPr b="1" lang="en-US" sz="32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br>
              <a:rPr sz="3200"/>
            </a:br>
            <a:r>
              <a:rPr b="1" lang="zh-TW" sz="32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請慢用</a:t>
            </a:r>
            <a:r>
              <a:rPr b="1" lang="en-US" sz="40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請慢用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4319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809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小貓</a:t>
            </a:r>
            <a:r>
              <a:rPr b="1" lang="en-US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  </a:t>
            </a:r>
            <a:r>
              <a:rPr b="1" lang="zh-TW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再見</a:t>
            </a:r>
            <a:r>
              <a:rPr b="1" lang="en-US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    </a:t>
            </a:r>
            <a:r>
              <a:rPr b="1" lang="zh-TW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要再來玩喔</a:t>
            </a:r>
            <a:r>
              <a:rPr b="1" lang="en-US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再見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5208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文鼎標楷注音"/>
              </a:rPr>
              <a:t>是誰過生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文鼎標楷注音"/>
              </a:rPr>
              <a:t>舉辦慶生會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       </a:t>
            </a: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有什麼動物來參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的慶生會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5076720" y="3284640"/>
            <a:ext cx="1535040" cy="2016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3"/>
          <a:stretch/>
        </p:blipFill>
        <p:spPr>
          <a:xfrm>
            <a:off x="539640" y="981000"/>
            <a:ext cx="1532160" cy="1944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4"/>
          <a:stretch/>
        </p:blipFill>
        <p:spPr>
          <a:xfrm>
            <a:off x="755640" y="3284640"/>
            <a:ext cx="1562040" cy="2016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5"/>
          <a:stretch/>
        </p:blipFill>
        <p:spPr>
          <a:xfrm>
            <a:off x="6948360" y="3284640"/>
            <a:ext cx="1440000" cy="2016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6"/>
          <a:stretch/>
        </p:blipFill>
        <p:spPr>
          <a:xfrm>
            <a:off x="2916360" y="3284640"/>
            <a:ext cx="15951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文鼎標楷注音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小貓慶生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有什麼慶生活動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小朋友說說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你怎麼過生日的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你參加過家人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朋友的慶生活動嗎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練習看看你能模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慶生會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什麼動物角色的叫聲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練習說一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的慶生會故事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動物角色的台詞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第一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08000" y="14130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地點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森林與小貓的木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人物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、小鴨、小牛、小狗、小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喵喵喵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今天是我生日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來開慶生會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鴨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呱呱呱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過生日，我要祝賀他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牛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哞哞哞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過生日我要祝賀他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狗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汪汪汪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過生日，我要祝賀他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雞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咕咕咕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過生日我要祝賀他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第二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地點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慶生會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人物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、小鴨、小牛、小狗、小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歡迎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歡迎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請進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狗、小雞、小鴨、小牛同聲說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  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禮物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送給你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謝謝  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狗、小雞、小鴨、小牛同聲說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  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來唱生日快樂歌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祝你生日快樂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來吃蛋糕 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請慢用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喵喵喵</a:t>
            </a:r>
            <a:r>
              <a:rPr b="1" lang="en-US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br>
              <a:rPr sz="2800"/>
            </a:br>
            <a:r>
              <a:rPr b="1" lang="zh-TW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今天是我生日</a:t>
            </a:r>
            <a:r>
              <a:rPr b="1" lang="en-US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br>
              <a:rPr sz="2800"/>
            </a:br>
            <a:r>
              <a:rPr b="1" lang="zh-TW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來開慶生會</a:t>
            </a:r>
            <a:r>
              <a:rPr b="1" lang="en-US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喵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7837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第三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地點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森林與小貓的木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人物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、小鴨、小牛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狗、小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狗、小雞、小鴨、小牛同聲說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 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再見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要再來玩喔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4704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呱呱呱</a:t>
            </a:r>
            <a:r>
              <a:rPr b="1" lang="en-US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br>
              <a:rPr sz="3600"/>
            </a:br>
            <a:r>
              <a:rPr b="1" lang="zh-TW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小貓過生日</a:t>
            </a:r>
            <a:br>
              <a:rPr sz="3600"/>
            </a:br>
            <a:r>
              <a:rPr b="1" lang="zh-TW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我要祝賀他</a:t>
            </a:r>
            <a:r>
              <a:rPr b="1" lang="en-US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呱.wav" descr=""/>
          <p:cNvPicPr/>
          <p:nvPr/>
        </p:nvPicPr>
        <p:blipFill>
          <a:blip r:embed="rId2"/>
          <a:stretch/>
        </p:blipFill>
        <p:spPr>
          <a:xfrm>
            <a:off x="450072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44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680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哞哞哞</a:t>
            </a:r>
            <a:r>
              <a:rPr b="1" lang="en-US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br>
              <a:rPr sz="2800"/>
            </a:br>
            <a:r>
              <a:rPr b="1" lang="zh-TW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小貓過生日</a:t>
            </a:r>
            <a:br>
              <a:rPr sz="2800"/>
            </a:br>
            <a:r>
              <a:rPr b="1" lang="zh-TW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我要祝賀他</a:t>
            </a:r>
            <a:r>
              <a:rPr b="1" lang="en-US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哞.wav" descr=""/>
          <p:cNvPicPr/>
          <p:nvPr/>
        </p:nvPicPr>
        <p:blipFill>
          <a:blip r:embed="rId2"/>
          <a:stretch/>
        </p:blipFill>
        <p:spPr>
          <a:xfrm>
            <a:off x="4572000" y="3357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9082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汪汪汪</a:t>
            </a:r>
            <a:r>
              <a:rPr b="1" lang="en-US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小貓過生日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我要祝賀他</a:t>
            </a:r>
            <a:r>
              <a:rPr b="1" lang="en-US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汪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6592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92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咕咕咕</a:t>
            </a:r>
            <a:r>
              <a:rPr b="1" lang="en-US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小貓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過生日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我要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祝賀他</a:t>
            </a:r>
            <a:r>
              <a:rPr b="1" lang="en-US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咕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5782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374508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歡迎</a:t>
            </a:r>
            <a:r>
              <a:rPr b="1" lang="en-US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!</a:t>
            </a:r>
            <a:r>
              <a:rPr b="1" lang="zh-TW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歡迎</a:t>
            </a:r>
            <a:r>
              <a:rPr b="1" lang="en-US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!</a:t>
            </a:r>
            <a:br>
              <a:rPr sz="4000"/>
            </a:br>
            <a:r>
              <a:rPr b="1" lang="zh-TW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請進</a:t>
            </a:r>
            <a:r>
              <a:rPr b="1" lang="en-US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歡迎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4363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禮物</a:t>
            </a:r>
            <a:r>
              <a:rPr b="0" lang="en-US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              </a:t>
            </a:r>
            <a:r>
              <a:rPr b="0" lang="zh-TW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送給你</a:t>
            </a:r>
            <a:r>
              <a:rPr b="0" lang="en-US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2411280" y="1628640"/>
            <a:ext cx="855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謝謝  </a:t>
            </a:r>
            <a:r>
              <a:rPr b="0" lang="en-US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禮物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5033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403236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來唱生日快樂歌</a:t>
            </a:r>
            <a:r>
              <a:rPr b="1" lang="en-US" sz="28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5292720" y="0"/>
            <a:ext cx="38512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祝你生日快樂</a:t>
            </a:r>
            <a:r>
              <a:rPr b="1" lang="en-US" sz="28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生日歌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7476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1:59:11Z</dcterms:created>
  <dc:creator>user</dc:creator>
  <dc:description/>
  <dc:language>en-US</dc:language>
  <cp:lastModifiedBy>USER</cp:lastModifiedBy>
  <dcterms:modified xsi:type="dcterms:W3CDTF">2022-09-11T09:19:36Z</dcterms:modified>
  <cp:revision>35</cp:revision>
  <dc:subject/>
  <dc:title>小貓的慶生會</dc:title>
</cp:coreProperties>
</file>