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9E93-A3ED-45B9-9C9A-36060EF4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9CAA-A07A-4C64-A91C-DF7E8DD8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EE3C-24BE-461B-AD21-CA125FC0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4CD0-8EBF-4DF3-B61C-CF0D27F9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F7C-4B22-4623-9605-C772F6F0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BBA6-6E6D-4B05-A276-704D296B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618-BDE3-4AAC-B29F-6899C1FA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FD9-DB60-404F-B20C-26ED24E7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231-BA7E-4B2C-A4F0-4AFB4FA6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5BF-ECD2-4B26-9F9C-35F124B9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900-6250-4236-9981-5DEF8C29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A67-6943-4543-BC7D-76B5D565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B1A5-152C-432E-BA52-BF07C0890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4319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990000"/>
                </a:solidFill>
                <a:latin typeface="Arial"/>
                <a:ea typeface="文鼎標楷注音"/>
              </a:rPr>
              <a:t>小貓的慶生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小貓的慶生會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9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7280" y="2781360"/>
            <a:ext cx="93672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br>
              <a:rPr sz="3200"/>
            </a:b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40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請慢用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31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  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再見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20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是誰過生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舉辦慶生會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     </a:t>
            </a: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有什麼動物來參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1535040" cy="201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53216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4"/>
          <a:stretch/>
        </p:blipFill>
        <p:spPr>
          <a:xfrm>
            <a:off x="755640" y="3284640"/>
            <a:ext cx="1562040" cy="201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5"/>
          <a:stretch/>
        </p:blipFill>
        <p:spPr>
          <a:xfrm>
            <a:off x="6948360" y="3284640"/>
            <a:ext cx="1440000" cy="20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6"/>
          <a:stretch/>
        </p:blipFill>
        <p:spPr>
          <a:xfrm>
            <a:off x="2916360" y="3284640"/>
            <a:ext cx="15951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貓慶生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有什麼慶生活動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朋友說說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怎麼過生日的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參加過家人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朋友的慶生活動嗎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看看你能模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慶生會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什麼動物角色的叫聲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說一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故事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動物角色的台詞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一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413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鴨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牛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二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慶生會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禮物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送給你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謝謝 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喵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83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三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狗、小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呱.wav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680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哞.wav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908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汪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659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9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咕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578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37450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歡迎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436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禮物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              </a:t>
            </a: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送給你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411280" y="1628640"/>
            <a:ext cx="85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謝謝  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禮物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03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40323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292720" y="0"/>
            <a:ext cx="3851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生日歌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747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1:59:11Z</dcterms:created>
  <dc:creator>user</dc:creator>
  <dc:description/>
  <dc:language>en-US</dc:language>
  <cp:lastModifiedBy>USER</cp:lastModifiedBy>
  <dcterms:modified xsi:type="dcterms:W3CDTF">2022-09-11T09:19:36Z</dcterms:modified>
  <cp:revision>35</cp:revision>
  <dc:subject/>
  <dc:title>小貓的慶生會</dc:title>
</cp:coreProperties>
</file>