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FCE4-3980-47B8-902D-693C5C98E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7794-8CFC-478E-8CD3-FDE744FF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26B2-0135-455A-9C8C-FE9B56F1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1A8B-E8D2-408C-AE14-6614E265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B24B-44F1-44F2-9181-1DB3A035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CAE3-7189-414E-BE86-97F4A2E6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B7D8-D98B-4801-972A-B439EEE2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EAB4-DB5C-4B44-B0C6-4DE15708F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428D-DEAF-459E-BEDB-823ED9BA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373-BAB9-49F0-A22E-5164B317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9A3B-B9CC-4F43-9661-9D965E68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CD95-F8DF-4133-A04C-B96883A7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0ECC-99F1-48CE-85C0-DEE894EEF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4319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990000"/>
                </a:solidFill>
                <a:latin typeface="Arial"/>
                <a:ea typeface="文鼎標楷注音"/>
              </a:rPr>
              <a:t>小貓的慶生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小貓的慶生會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998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3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867280" y="2781360"/>
            <a:ext cx="936720" cy="36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br>
              <a:rPr sz="3200"/>
            </a:br>
            <a:r>
              <a:rPr b="1" lang="zh-TW" sz="32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40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請慢用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4319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8099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    </a:t>
            </a:r>
            <a:r>
              <a:rPr b="1" lang="zh-TW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6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再見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208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是誰過生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文鼎標楷注音"/>
              </a:rPr>
              <a:t>舉辦慶生會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     </a:t>
            </a: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有什麼動物來參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5076720" y="3284640"/>
            <a:ext cx="1535040" cy="201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53216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4"/>
          <a:stretch/>
        </p:blipFill>
        <p:spPr>
          <a:xfrm>
            <a:off x="755640" y="3284640"/>
            <a:ext cx="1562040" cy="201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5"/>
          <a:stretch/>
        </p:blipFill>
        <p:spPr>
          <a:xfrm>
            <a:off x="6948360" y="3284640"/>
            <a:ext cx="1440000" cy="2016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6"/>
          <a:stretch/>
        </p:blipFill>
        <p:spPr>
          <a:xfrm>
            <a:off x="2916360" y="3284640"/>
            <a:ext cx="15951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貓慶生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有什麼慶生活動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小朋友說說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怎麼過生日的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你參加過家人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文鼎標楷注音"/>
              </a:rPr>
              <a:t>朋友的慶生活動嗎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看看你能模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慶生會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什麼動物角色的叫聲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練習說一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的慶生會故事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動物角色的台詞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一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08000" y="14130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鴨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牛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，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過生日我要祝賀他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二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慶生會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小狗、小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禮物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送給你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謝謝 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   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5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來吃蛋糕 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r>
              <a:rPr b="1" lang="zh-TW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請慢用</a:t>
            </a:r>
            <a:r>
              <a:rPr b="1" lang="en-US" sz="25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喵喵喵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今天是我生日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來開慶生會</a:t>
            </a:r>
            <a:r>
              <a:rPr b="1" lang="en-US" sz="2800" spc="-1" strike="noStrike">
                <a:solidFill>
                  <a:srgbClr val="99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喵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7837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第三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地點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森林與小貓的木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人物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、小鴨、小牛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狗、小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狗、小雞、小鴨、小牛同聲說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再見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000000"/>
                </a:solidFill>
                <a:uFillTx/>
                <a:latin typeface="文鼎標楷注音"/>
                <a:ea typeface="文鼎標楷注音"/>
              </a:rPr>
              <a:t>小貓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:</a:t>
            </a:r>
            <a:r>
              <a:rPr b="1" lang="zh-TW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要再來玩喔</a:t>
            </a:r>
            <a:r>
              <a:rPr b="1" lang="en-US" sz="3200" spc="-1" strike="noStrike">
                <a:solidFill>
                  <a:srgbClr val="000000"/>
                </a:solidFill>
                <a:latin typeface="文鼎標楷注音"/>
                <a:ea typeface="文鼎標楷注音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文鼎標楷注音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呱呱呱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3600"/>
            </a:br>
            <a:r>
              <a:rPr b="1" lang="zh-TW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36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呱.wav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680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哞哞哞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2800"/>
            </a:br>
            <a:r>
              <a:rPr b="1" lang="zh-TW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28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哞.wav" descr=""/>
          <p:cNvPicPr/>
          <p:nvPr/>
        </p:nvPicPr>
        <p:blipFill>
          <a:blip r:embed="rId2"/>
          <a:stretch/>
        </p:blipFill>
        <p:spPr>
          <a:xfrm>
            <a:off x="457200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908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汪汪汪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汪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659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92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咕咕咕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小貓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過生日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我要</a:t>
            </a:r>
            <a:br>
              <a:rPr sz="4000"/>
            </a:br>
            <a:r>
              <a:rPr b="1" lang="zh-TW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祝賀他</a:t>
            </a:r>
            <a:r>
              <a:rPr b="1" lang="en-US" sz="4000" spc="-1" strike="noStrike">
                <a:solidFill>
                  <a:srgbClr val="0000cc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咕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5782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374508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歡迎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br>
              <a:rPr sz="4000"/>
            </a:br>
            <a:r>
              <a:rPr b="1" lang="zh-TW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請進</a:t>
            </a:r>
            <a:r>
              <a:rPr b="1" lang="en-US" sz="4000" spc="-1" strike="noStrike">
                <a:solidFill>
                  <a:srgbClr val="336600"/>
                </a:solidFill>
                <a:latin typeface="文鼎標楷注音"/>
                <a:ea typeface="文鼎標楷注音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歡迎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4363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禮物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              </a:t>
            </a: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送給你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11280" y="1628640"/>
            <a:ext cx="85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謝謝  </a:t>
            </a:r>
            <a:r>
              <a:rPr b="0" lang="en-US" sz="44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禮物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033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40323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來唱生日快樂歌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5292720" y="0"/>
            <a:ext cx="3851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祝你生日快樂</a:t>
            </a:r>
            <a:r>
              <a:rPr b="1" lang="en-US" sz="2800" spc="-1" strike="noStrike">
                <a:solidFill>
                  <a:srgbClr val="c00000"/>
                </a:solidFill>
                <a:latin typeface="文鼎標楷注音"/>
                <a:ea typeface="文鼎標楷注音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生日歌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1747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1:59:11Z</dcterms:created>
  <dc:creator>user</dc:creator>
  <dc:description/>
  <dc:language>en-US</dc:language>
  <cp:lastModifiedBy>USER</cp:lastModifiedBy>
  <dcterms:modified xsi:type="dcterms:W3CDTF">2022-09-11T09:19:36Z</dcterms:modified>
  <cp:revision>35</cp:revision>
  <dc:subject/>
  <dc:title>小貓的慶生會</dc:title>
</cp:coreProperties>
</file>