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4002-A697-434F-B64E-52B74D64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27A3-AB0F-4AA9-87EF-618EA65D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72EB-7E2D-477B-BA23-ABA09CDA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4F3-B1DD-4F52-8BEF-CBC77132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D6D3-B0EF-4732-B155-0DFBA2CB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977-D2A0-44EF-BB1F-302F8C0B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079-F8C3-4977-BDBE-82A388D5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CF58-91D1-4A5E-ADAD-D96BCDE5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176D-A7BC-4615-9867-E964AB5E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77EC-0D39-4789-A910-0D685C06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FB9A-6DFD-4647-82F4-FE7FDA01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AD15-362E-4E97-A0BD-CE2946CF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9338-7CD1-4930-9CDF-1AF4C51F7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4319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990000"/>
                </a:solidFill>
                <a:latin typeface="Arial"/>
                <a:ea typeface="文鼎標楷注音"/>
              </a:rPr>
              <a:t>小貓的慶生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小貓的慶生會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39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7280" y="2781360"/>
            <a:ext cx="93672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br>
              <a:rPr sz="3200"/>
            </a:b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40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請慢用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31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  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再見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208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是誰過生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舉辦慶生會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     </a:t>
            </a: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有什麼動物來參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1535040" cy="201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53216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4"/>
          <a:stretch/>
        </p:blipFill>
        <p:spPr>
          <a:xfrm>
            <a:off x="755640" y="3284640"/>
            <a:ext cx="1562040" cy="201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5"/>
          <a:stretch/>
        </p:blipFill>
        <p:spPr>
          <a:xfrm>
            <a:off x="6948360" y="3284640"/>
            <a:ext cx="1440000" cy="20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6"/>
          <a:stretch/>
        </p:blipFill>
        <p:spPr>
          <a:xfrm>
            <a:off x="2916360" y="3284640"/>
            <a:ext cx="15951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貓慶生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有什麼慶生活動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朋友說說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怎麼過生日的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參加過家人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朋友的慶生活動嗎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看看你能模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慶生會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什麼動物角色的叫聲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說一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故事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動物角色的台詞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一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1413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鴨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牛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二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慶生會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禮物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送給你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謝謝 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喵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83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三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狗、小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呱.wav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680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哞.wav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908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汪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659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9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咕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578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37450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歡迎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436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禮物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              </a:t>
            </a: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送給你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411280" y="1628640"/>
            <a:ext cx="85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謝謝  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禮物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03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40323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5292720" y="0"/>
            <a:ext cx="38512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生日歌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747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1:59:11Z</dcterms:created>
  <dc:creator>user</dc:creator>
  <dc:description/>
  <dc:language>en-US</dc:language>
  <cp:lastModifiedBy>USER</cp:lastModifiedBy>
  <dcterms:modified xsi:type="dcterms:W3CDTF">2022-09-11T09:19:36Z</dcterms:modified>
  <cp:revision>35</cp:revision>
  <dc:subject/>
  <dc:title>小貓的慶生會</dc:title>
</cp:coreProperties>
</file>