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5C33C-0929-4C43-BDF9-A5F0B8682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5528C624-86BC-46C8-9FC3-EB961AE09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B14C1ED1-3627-46A0-92A9-AA97E2B22B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A2A05C2B-A18E-486A-8E8A-14596FA8B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64DF4028-0C65-41E9-BECC-64C5E3E56B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59D4A66D-293D-4989-A003-BC7146E3D3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678FBF78-E2DB-457F-8674-A4BFF5AD46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9A61D4A7-48FD-46E0-84D7-A3DFD3C5F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26A2B650-C7CD-4425-AD5F-526B144EF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DB307997-7489-410C-AB56-F2D52D3B3D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3C79D1D2-B5C9-49D5-A9F8-9B59797EF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D0420851-A016-4188-87A9-D411598D26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84C5-7D65-4FB3-B16F-DDB8B659E388}"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C229-71C7-41CF-A3D2-A5F87730E062}" type="datetime">
              <a:rPr b="0" lang="zh-TW" sz="2400" spc="-1" strike="noStrike">
                <a:solidFill>
                  <a:srgbClr val="000000"/>
                </a:solidFill>
                <a:latin typeface="Times New Roman"/>
              </a:rPr>
              <a:t>115/07/29</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