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207BB-EAD2-4069-878F-0D22504AE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C4E707DF-A6D6-4118-8FA1-F2644A986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64EA46D2-382E-4576-AD82-040A42FEBD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3B123F45-1B72-4D4F-BB95-E7BAF188B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2F3AD963-7243-47BF-A4D5-AFC10646F7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6C02C371-73C6-4B7E-BE39-E755CD4B48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2226259A-9E23-4075-87F2-095B54709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14A602D4-10A5-4D29-B007-AEC541CAB9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BA06D4E5-351E-4311-9C4C-BCFAC9703D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3A2C8EE-1AF8-4015-9B01-82F69464B8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F27F299E-89C4-4985-8A74-5301F0A9F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EC8B551-A6AC-4358-A842-2108697077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4307-A9E3-4309-BFB8-648421180098}"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C110-094E-44FB-BAEA-784FE715D254}" type="datetime">
              <a:rPr b="0" lang="zh-TW" sz="2400" spc="-1" strike="noStrike">
                <a:solidFill>
                  <a:srgbClr val="000000"/>
                </a:solidFill>
                <a:latin typeface="Times New Roman"/>
              </a:rPr>
              <a:t>115/07/29</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