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DDF9E-53A8-4940-957F-493D2D9B5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1C28846-D2FC-4A67-AACF-17356A32B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F4C624ED-52BE-40EF-9AEF-EF51F9D66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FD981853-A1D9-49C2-80BC-286F48EAE9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F3EEE41C-1FE8-4F52-9E3B-83A4C3D78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4E0F9850-ECAD-4E0E-9227-C7649C7196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BCB32389-65D5-4A7F-80E6-ED48E92BA9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1664E0BB-25B0-4C28-BB5F-8C2A9D658C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FBE587E9-DB0B-4899-A960-48236108F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3D2AF3F-7BDC-4C70-9A3A-CE24BDB225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EF739A68-9459-4E4C-BABC-3EFC426AB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C164800-8F77-4289-B7BC-163F592C0F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38CF-CD0F-42D1-A2CF-D8060C64E39F}"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A8C1-555F-4857-B9E9-3A906BDEC790}" type="datetime">
              <a:rPr b="0" lang="zh-TW" sz="2400" spc="-1" strike="noStrike">
                <a:solidFill>
                  <a:srgbClr val="000000"/>
                </a:solidFill>
                <a:latin typeface="Times New Roman"/>
              </a:rPr>
              <a:t>115/07/30</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