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26FE9-03E7-4D51-8228-AAB378D53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7644EC44-E40C-4503-A862-4F1F7DD271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AE041CAC-B51A-47FB-B20C-914DA31D70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25F9AFFA-8638-4C70-937F-7938FC506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5B2FDABC-A049-43C2-A560-F9D3C3952B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D0148883-77D4-4693-914F-34A7DBDD5E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FCD49AEE-8D43-4149-B418-C541AB4C10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39D520D6-5F60-4C21-911E-C665B4D42C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B99E13D5-1453-425B-9206-C6A359BC71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47050EDA-E033-4299-A5BB-6788E7226C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86DCBB2B-8532-424F-A974-A72D43E87C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115CCCF-5366-4E34-81E0-6A500DD9E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5616-D994-49EC-BF3C-F82E8F603174}"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AF97-3787-41C4-863E-CA4EB4A96824}" type="datetime">
              <a:rPr b="0" lang="zh-TW" sz="2400" spc="-1" strike="noStrike">
                <a:solidFill>
                  <a:srgbClr val="000000"/>
                </a:solidFill>
                <a:latin typeface="Times New Roman"/>
              </a:rPr>
              <a:t>115/07/28</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