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337F8-91DE-445E-9A18-32A32339C4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E3046E29-236F-4396-B254-0C39C61E0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D49D259D-7376-4140-B5E7-85A3958BB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523A5D1D-5589-41DE-A3E6-6B2AE03F9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ABBFF490-2563-4297-9D7A-E9722ADA6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1206CE15-2028-4FD7-84AF-05C69DF8DD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0005B6A4-6FF2-437A-A82B-9B32B4810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8B27AC62-A55E-478D-A3A4-D64C87DC49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2AAAE7FD-620D-4C33-B1CA-7CE484943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52AD23F5-E2FA-4F2D-9F6A-16E76DF79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7FFD220D-9DB7-4A20-A89A-691585C8A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99E2F084-F8A4-41A1-9F38-7C3E0C6673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DC67-84B9-477F-9DF1-3B25E42E7C3B}"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648E-B23E-49D6-98B2-3A47C7D2ABF8}" type="datetime">
              <a:rPr b="0" lang="zh-TW" sz="2400" spc="-1" strike="noStrike">
                <a:solidFill>
                  <a:srgbClr val="000000"/>
                </a:solidFill>
                <a:latin typeface="Times New Roman"/>
              </a:rPr>
              <a:t>115/07/31</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